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072-7611-436F-BF61-9576A338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102-7E85-4713-AC2A-C7120BA4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83D-01F7-420B-B5BE-A65BCF5E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087-AE20-435D-A5BB-E1FE2190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7EE-7F57-44AA-8B64-E97BEA22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48E-30A5-4CAD-9F20-7B374DAA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52C-2CCC-4734-B585-65358C0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86A-BF9D-4437-8351-49293458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370-3328-4978-8D97-31F7296A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EB3-8428-423D-A9BD-EB38AD3D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346-A430-4E64-BA52-6EF6653A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616-E19E-4F1F-A8D2-062FF4B7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2E34-C9A4-4901-B9EE-ABA716AF4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bensguide.gpo.gov/3-5/state/michigan.html" TargetMode="External"/><Relationship Id="rId4" Type="http://schemas.openxmlformats.org/officeDocument/2006/relationships/hyperlink" Target="http://bensguide.gpo.gov/3-5/state/michigan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ostcardsfrom.com/t1/980608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postcardsfrom.com/stamp/stamp-mi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434340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i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March 0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609480"/>
            <a:ext cx="68580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higan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apital: La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opulation: 9,938,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ntered the Union: January 2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, 1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umber Entered: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Kristen ITC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otto: If you seek a pleasant Peninsula, look abou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ickname: The Wolverin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lower: Appl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ird: R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ong: Michigan, My Mich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eaning behind name: Used to be a Indian Tribe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ate Tree: The White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ichigan is one of the most populous states in the U.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ate Mammal: White Tailed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ate Reptile: Painted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Michigan: Map and State Flag"/>
          <p:cNvPicPr/>
          <p:nvPr/>
        </p:nvPicPr>
        <p:blipFill>
          <a:blip r:embed="rId1"/>
          <a:srcRect l="0" t="0" r="1548" b="63853"/>
          <a:stretch/>
        </p:blipFill>
        <p:spPr>
          <a:xfrm>
            <a:off x="3048120" y="228600"/>
            <a:ext cx="251460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Michigan: Map and State Flag"/>
          <p:cNvPicPr/>
          <p:nvPr/>
        </p:nvPicPr>
        <p:blipFill>
          <a:blip r:embed="rId2"/>
          <a:srcRect l="0" t="36163" r="-4601" b="0"/>
          <a:stretch/>
        </p:blipFill>
        <p:spPr>
          <a:xfrm>
            <a:off x="4343400" y="3200400"/>
            <a:ext cx="2133720" cy="177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1981080"/>
            <a:ext cx="5334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 for ki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Michiga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michig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4100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 Government for ki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Michiga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michig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ll images Copyright © 1997 - 2000 WriteLine. All Rights Reserved. governor's mansion"/>
          <p:cNvPicPr/>
          <p:nvPr/>
        </p:nvPicPr>
        <p:blipFill>
          <a:blip r:embed="rId1"/>
          <a:stretch/>
        </p:blipFill>
        <p:spPr>
          <a:xfrm>
            <a:off x="2133720" y="17524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3880" y="45720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9 the town of Marshall was so certain of becoming the state capital that it built this Governor’s Mansion for the future state execu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532620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029200"/>
            <a:ext cx="716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 America through post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rshall, M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10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8060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opyright © 1998 WriteLine. All Rights Reserved. Apple Blossom"/>
          <p:cNvPicPr/>
          <p:nvPr/>
        </p:nvPicPr>
        <p:blipFill>
          <a:blip r:embed="rId1"/>
          <a:stretch/>
        </p:blipFill>
        <p:spPr>
          <a:xfrm>
            <a:off x="152280" y="0"/>
            <a:ext cx="256248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opyright © 1997 WriteLine. All Rights Reserved. Robin bird"/>
          <p:cNvPicPr/>
          <p:nvPr/>
        </p:nvPicPr>
        <p:blipFill>
          <a:blip r:embed="rId2"/>
          <a:stretch/>
        </p:blipFill>
        <p:spPr>
          <a:xfrm>
            <a:off x="5562720" y="4572000"/>
            <a:ext cx="301932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00200" y="2819520"/>
            <a:ext cx="4952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r America through postcard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chigan State stamp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0/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stcardsfrom.com/stamp/stamp-m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808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ate Flower and Bir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33:38Z</dcterms:created>
  <dc:creator>install</dc:creator>
  <dc:description/>
  <dc:language>en-US</dc:language>
  <cp:lastModifiedBy>install</cp:lastModifiedBy>
  <dcterms:modified xsi:type="dcterms:W3CDTF">2011-03-16T15:55:26Z</dcterms:modified>
  <cp:revision>11</cp:revision>
  <dc:subject/>
  <dc:title>Slide 1</dc:title>
</cp:coreProperties>
</file>